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391-50E9-4503-A585-B1C31406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DD9-BEF9-4324-AD4B-C9AD9D59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25E-992B-4A1E-8EFA-AF1FDF37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D1E-30D8-4886-AC86-9021303E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734F-5316-426B-AAEC-F7FC6857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29CC-6A3A-4861-8200-80DA8F0F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7D43-8E10-474E-9905-E5C4654E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225F-DF13-4CE6-A314-2B5208E1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63B8-61B7-4706-89C0-68F46E43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FB98-BDC4-4B76-8E2A-23080615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2CCD-6BA6-41E3-B343-B5A60385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CC3-0336-4DD8-A8DC-6C9CD493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3CFE-7C47-4A07-B173-2E876E74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92B2-3DA2-4A57-9C2B-EA0D5EAC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0292-436E-4AE6-B0E2-8454145C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7655-2273-4633-996F-EAE427A9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F99B-6A45-45C6-BA3A-8ED88E21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CF028-013E-4848-B1E0-A7BC0E3F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87D33-1EC6-498A-98F0-6FCB6982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3008-3EC9-417B-AE9A-E5747F88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8C496-67AC-482E-B7F7-02BD04FD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7B9A6-2E18-41F5-850B-290C356E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C28-B316-48CA-86C8-A460EAE6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8AB51-53AA-4B02-97C8-32618423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ED7B-7B18-4A6F-8236-637BEB06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68B73-604B-4240-B7F3-759EAD74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D8AB-7F5A-4290-9E87-674F0A05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48473-C2BB-43F3-A167-F85D6655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59D4E-2395-410B-8BC8-6C5FB68E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E19C7-AF17-45DF-8F95-E6B1D9D7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08409-61B8-48DF-9696-EC0918F0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4E430-6498-468C-AB29-5E79AAA6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9371B-0570-4ECD-A88F-3098FCF4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CC9-3B92-46B8-820B-F48A3FBF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B5E9C-7EAD-4709-A1B8-459139E4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6A6EB-0BA2-41E4-8B7A-9B7DDC65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3CA0B-C96E-4627-84DB-32FD4D61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981C8-3FAD-4369-8A31-9B3CEC47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A7392-7416-48B2-8785-F2C05FA5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2D4F8-F698-4DC0-B3F2-A3E34896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39AC3-8ADE-4724-A941-E4D155AF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5E326-FE52-4296-B1F7-35F58B7B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A46E-0102-4E0F-B3FF-12BB07C3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65E7B-142D-4D0F-BCE5-294DEA28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0B4-EF62-4D65-913B-F5B450F8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8D033-2667-4B78-9AB7-0B1F4972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49692-37A0-4734-AB2D-59EBEE7D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70262-BAAE-405E-8427-389C8741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EB171-3E54-40F3-B75E-D96C2554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D05CB-BB55-41B9-8E8F-773E4665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30EFA-0BEF-46CE-A9FC-E896852E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30FC0-4A5A-4EAC-A039-6680B694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BE6B5-02EB-4435-8376-9BA8101A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E89D3-B014-4BD2-973F-64B86691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3A083-04A5-4068-BF63-A33B3A3D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B45-F5D3-4590-A314-57EC2106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8C039-9C43-40EB-8C18-7C877140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E0177-BCF6-41AD-ADD4-031BC678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D90C6-F1C6-47BE-BED7-3FE6BD9B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36358-18D0-44FB-95D5-A586C7FC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11FA1-BBEE-45EA-99D5-0C4CBA66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5D4F3-815D-4090-B38B-AC32C419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74FF2-85EF-43F8-B55F-AFDF0D03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254F7-26D3-49E9-8674-402F6149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1985A-31D7-4B48-B03F-2496BCAB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1EB6A-96BF-401C-8F15-6B51A9B9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EF3-97F3-40D0-BE23-9A4F41C5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BA502-1F38-4994-83F9-000A091C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7ACA9-9F9C-412A-889F-B7DFAC96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576EB-090C-4AED-85CA-2611C2EF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AD39F-ADE3-4816-8A2A-FAE7164A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3DD81-9A87-4FB4-B485-1BD44B17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52266-EC6F-432B-B222-07BB1E0D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184D2-1E2A-4630-BB1C-80182991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DEB4B-1BE6-47EC-BA93-EDA612F5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67580-273D-40B9-83FF-8C995303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1EC90-2579-462B-ADDF-4B1D9A04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F46-D9CB-483D-AFC0-FE1052B5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71F2F-8978-4AC7-9396-0A0A6062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04832-BB84-48A5-8470-8040CE2B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82399-5FBB-4CA0-9F22-8901AA4E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8F2F5-63D2-4A15-B563-BF49E651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C485C-5CC2-4CA6-8675-5A961A5D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615-3BE4-4ABD-BDEA-427EF1B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moonlight master 2.png"/>
          <p:cNvPicPr/>
          <p:nvPr/>
        </p:nvPicPr>
        <p:blipFill>
          <a:blip r:embed="rId3"/>
          <a:srcRect l="2391" t="1098" r="19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DDF7-657A-4F43-A54B-A7ADA6902366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Moonlight title.png"/>
          <p:cNvPicPr/>
          <p:nvPr/>
        </p:nvPicPr>
        <p:blipFill>
          <a:blip r:embed="rId3"/>
          <a:srcRect l="6767" t="0" r="4152" b="4118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76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5880" y="6543360"/>
            <a:ext cx="289584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28240" y="6511680"/>
            <a:ext cx="10666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4F53-219B-47ED-9064-7F372F6B3C4E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moonlight section.png"/>
          <p:cNvPicPr/>
          <p:nvPr/>
        </p:nvPicPr>
        <p:blipFill>
          <a:blip r:embed="rId3"/>
          <a:srcRect l="6390" t="0" r="4960" b="270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ECFC-87BE-45BE-A368-635EDBB3645E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0344-BF74-4B44-8F84-EF52EFA92D4A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A9E4-9D7D-423A-99CE-45EA5B81F6F0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A3FE-B126-4798-A3D8-BBEADF2713DA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e5f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ndar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be5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5957-57D3-4E5D-AE87-5A38B618D447}" type="slidenum">
              <a:rPr b="0" lang="en-US" sz="1300" spc="-1" strike="noStrike">
                <a:solidFill>
                  <a:srgbClr val="dbe5f1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566640" y="371520"/>
            <a:ext cx="6218280" cy="1171440"/>
          </a:xfrm>
          <a:prstGeom prst="rect">
            <a:avLst/>
          </a:prstGeom>
          <a:ln w="0">
            <a:noFill/>
          </a:ln>
        </p:spPr>
      </p:pic>
      <p:pic>
        <p:nvPicPr>
          <p:cNvPr id="295" name="Content Placeholder 2" descr=""/>
          <p:cNvPicPr/>
          <p:nvPr/>
        </p:nvPicPr>
        <p:blipFill>
          <a:blip r:embed="rId2"/>
          <a:stretch/>
        </p:blipFill>
        <p:spPr>
          <a:xfrm>
            <a:off x="603360" y="1798560"/>
            <a:ext cx="3084480" cy="3870360"/>
          </a:xfrm>
          <a:prstGeom prst="rect">
            <a:avLst/>
          </a:prstGeom>
          <a:ln w="0">
            <a:noFill/>
          </a:ln>
        </p:spPr>
      </p:pic>
      <p:pic>
        <p:nvPicPr>
          <p:cNvPr id="296" name="Content Placeholder 3" descr=""/>
          <p:cNvPicPr/>
          <p:nvPr/>
        </p:nvPicPr>
        <p:blipFill>
          <a:blip r:embed="rId3"/>
          <a:stretch/>
        </p:blipFill>
        <p:spPr>
          <a:xfrm>
            <a:off x="5022720" y="1968480"/>
            <a:ext cx="298764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23:27:25Z</dcterms:created>
  <dc:creator>Doug Shook</dc:creator>
  <dc:description/>
  <dc:language>en-US</dc:language>
  <cp:lastModifiedBy>Doug Shook</cp:lastModifiedBy>
  <dcterms:modified xsi:type="dcterms:W3CDTF">2008-03-26T23:28:50Z</dcterms:modified>
  <cp:revision>1</cp:revision>
  <dc:subject/>
  <dc:title>Quiz:  Friday March 28, 2008</dc:title>
</cp:coreProperties>
</file>